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B83-0407-4CF3-91A5-9474BDB2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09A-002D-4BA4-AA4C-3DB2ADD1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6AE-110A-4796-9330-C7C0ECA2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83C-E710-4B8F-AA05-73BEC150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F175-33E1-48AB-BCCE-19FDBCB6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B037-612E-4902-93DB-2CD5CC14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B86D-280B-42F9-9846-125A9118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05BB-DF3E-4080-B79B-B6E8E96E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4D23-924F-457B-A540-D11F1991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0016-15FD-4DDC-B05F-65A85048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071A-769B-4C28-A46B-BB9C7FD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50B-33AA-40FE-9E8F-4569AF05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69DC-A71E-431C-A8B1-A4C03D4C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67E5-A802-428F-8017-28A97523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395F-50DB-4E98-804D-B2FF1011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C30F-D811-45FF-8159-C2332BDA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BB24-D5CB-4320-BD93-FAFCF4F9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B03-0826-4F51-8B90-898596AC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138D-79F6-40DF-AB91-90879AB8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E88-B40E-4141-804E-1E3D91DB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0F1-964E-4CA7-A416-31DD1FA2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473-2339-41BA-B218-10321A06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704-B5FA-4FB4-AE2A-7F4565C6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AFB-58AB-4049-8CC1-5C410AD7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23DA-2D45-4123-87BC-5C66677E48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851D-B152-4F36-A69C-A6EE857192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38224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УНАПРЕЂЕЊЕ ОРГАНИЗАЦИОНИХ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ОЦЕС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2. Планирање процеса СБЗ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реирање крос-функционалних тим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дентификовање свих конституената (интересних груп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нгажовање експе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ренинг менаџ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езбеђивање података о текућем стању посл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3. Објављивањ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ву фазу чине следеће актив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јашњавање пословне ствар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јављивање одлу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дређивање тајм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4. Имплемент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ву фазу чине следећи елемен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аопштавање ист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моћ радницима који остају без по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лога прав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бровољни одлас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кључивање запослених у имплемент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ука за </a:t>
            </a:r>
            <a:r>
              <a:rPr b="1" lang="sr-Latn-R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еживеле</a:t>
            </a:r>
            <a:r>
              <a:rPr b="1" lang="sr-Latn-RS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стратег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23760" y="1752480"/>
            <a:ext cx="91202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стратег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9080" y="1852560"/>
            <a:ext cx="90615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тактик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времено пензионис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мештање (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utplac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знури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тпушт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обровољни одлас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рекид нових запошља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utsourcing и укидање фун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мањивање организационих ниво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ајање једи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едизајн по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тицај на запослен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 груп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х који су под утицајем стратегије СБЗ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послени који напуштају организ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Преживели</a:t>
            </a: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– запослени који остају у организацији након реорган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RS" sz="3200" spc="-1" strike="noStrike">
                <a:solidFill>
                  <a:srgbClr val="ff0000"/>
                </a:solidFill>
                <a:latin typeface="Arial"/>
              </a:rPr>
              <a:t>Терминатори</a:t>
            </a:r>
            <a:r>
              <a:rPr b="1" lang="sr-Latn-RS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еживели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ји спроводе план СБ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атегорије ″Преживелих″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″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еживели″ који обавезују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лојални, хладнокрвни и следе инструкци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еживели″ који се нада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рихватају иницијативу и укључују се у решавање пробл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еживели″ који страхуј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уплашени и пасив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еживели″ који су циничн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отворено противљење целом проц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Управљање знањем током СБЗ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37098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иступ СБЗ заснован на зн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гући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блем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нтификовање суштинске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 мапирати знањ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 спречити одлазак лидера знања из организациј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 обезбедити кодификација и персонализациј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еинжењеринг пословних проце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ff"/>
                </a:solidFill>
                <a:latin typeface="Arial"/>
              </a:rPr>
              <a:t>Деф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инжењеринг пословног процеса представља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огр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дикалних организационих проме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ји у првом плану има процес послов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и смерниц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еинжењеринга 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ирода промена коју изаз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ерспектива организаци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битна улога информационе технологи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еинжењеринг пословних проце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 процеса у којима се ради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еинжењерин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јчешћ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ухва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знавање проце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варање мапе процес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бор проце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умевање проце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ефиницију проце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изајн процеса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титуционализацију,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финисање пробл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Реинжењеринг пословних процес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инжењеринг се често повезује са процесом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енчмаркинг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оређење са најбољима) и постоје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етири типа тог проце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интер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конкурент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функционал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генери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стратег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БЗ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је планирана елиминација великог броја запослених спроведена у сврху побољшања организационе конкурен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БЗ ≠ Отпуштањ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тпуштањ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е односи на тактичке акције елиминације редундантних вештина, а СБЗ је дугорочна стратегија којој отпуштање може да доприне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стратег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БЗ (смањивање броја запослених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је планирана елиминација великог броја запослених спроведена у сврху побољшања организационе конкурен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БЗ ≠ Отпуштањ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тпуштањ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е односи на тактичке акције елиминације редундантних вештина, а СБЗ је дугорочна стратегија којој отпуштање може да доприне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БЗ процес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БЗ процес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не следеће фаз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оношење одлуке о смањивању броја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ланирање читавог проц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бјављ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мплементација СБЗ стратег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1. Доношење одлуке о СБЗ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е одлуке о СБЗ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а размотр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ицај на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нкурентску пози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нисањ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уктуре рад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наге која ће подржати конкурентску пред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а постојећих и потребних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ешт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дне сна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алуација постојећ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аксе УЉ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нтификовањ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итичних тачака у УЉ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1. Доношење одлуке о СБЗ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БЗ као последњи избо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пре одлуке треба преиспитати могућности краткорочних мера: замрзавање плата, престанак запошљавање, онемогућавање прековременог рада, укидање бонуса, скраћивање радне недеље или коришћење неплаћених одм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Јачање кредибилне ви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9T07:51:37Z</dcterms:modified>
  <cp:revision>184</cp:revision>
  <dc:subject/>
  <dc:title>Soft and Hard Skills Development: A Current Situation in Serbian Companies</dc:title>
</cp:coreProperties>
</file>